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659-8275-4C36-93E7-67D18C2F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8A2-7FA8-4BD3-8F49-376C591C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1AB-4766-4CC5-BB22-E4BD64D8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66C-F0C0-4C59-80A3-E2FB1B08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C425-FE98-4EDB-8EF6-F52491C5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B036-CAC7-4CEB-8405-7FD197F0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6404-4986-44E6-83D4-C50FB9CD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2195-EE81-4471-B1A6-8B9B1D83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6C06-A92D-422D-85E6-B661F1C2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D91B-A526-4E33-9A9B-63ED72BA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1A98-C1A1-4352-A43C-DCABEB05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BB3-AC4F-4825-A965-BAAD60FB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CED5-16AC-4EA4-AFC1-6FB61E2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7F9F-ABDD-4849-B5F9-E5A8E1A1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1E22-F502-4F59-9BC6-51BACD49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A758-59FA-479E-AD42-133A6A36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ADB5-98E4-4E89-83BA-768CAB64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138-78AA-468D-8288-3AE59AFB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E11-7F58-48F5-B051-7D8B8BB5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438-FD80-4883-A7DC-13598207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851-11AF-45CE-9052-FC958D02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0BB-E15F-45FE-9B5B-BDBAF835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43E-1BF3-465B-B258-97C877B3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9E8-2C2E-4AA1-9943-8E9B99AA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3812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228600"/>
            <a:ext cx="328320" cy="474840"/>
          </a:xfrm>
          <a:prstGeom prst="rect">
            <a:avLst/>
          </a:prstGeom>
          <a:gradFill rotWithShape="0">
            <a:gsLst>
              <a:gs pos="0">
                <a:srgbClr val="fef1c0">
                  <a:alpha val="13333"/>
                </a:srgbClr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3808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3808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06632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69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84A1-8D17-4DE5-9CDC-3B78FC697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53280" y="6053040"/>
            <a:ext cx="99072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0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3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1c1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6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86D0-EBD2-4462-9989-AC297ADFB6D9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69e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ata Directo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Gilbert, gilbertd@indiana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202248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ta Access Nee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le genome dat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Page scraping and bulk files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Internet search &amp; retrieval of all genome objects distributed among many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Simple, flexible client program mod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Efficient for high volume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jects; &gt;1 GB siz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ies of Genome Dat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ies are a necessary step for bio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road and shallow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ories feder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arrow and deep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-Data Acc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S, Sequence Retrieval System;  Entrez ;  AceDB; Genome relational databases (Ensembl, FlyBase, WormBase) ; IBM DiscoveryLink; BioDAS ; BioM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services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onto access tools for common query/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ure, efficient for high volumes, query distributed directories ; works well with bio-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ervic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messages over Web ; wide industry support , standards are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compon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1289160"/>
            <a:ext cx="853452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irectory Nee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existing techn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finding distribut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Efficient for mill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bjects, by the gigabyte and tera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Qu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d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across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ollabora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Sup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ing and new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bioinformatics data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lational dbs, object and XML dbs, SRS, Entrez, Ace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Simple 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mputable use of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,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common sch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escrib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Replicate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bjects among bioinformatics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Peer-to-peer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llaborativ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authentication and secu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rid Services Architechture (OG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ased; query support for XML-SQL and Xque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 project: http://www.ogsa-dai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weight Directory Access (L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system for distributed search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centric, optimized for efficient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, distributed and replicated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ciences ID (LSID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tandard for bio-object naming, with LDAP and WebService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y project web services reposi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test distributed access with LDAP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 backend for efficient search/retrieval from GenBank, SwissProt/TrEMBL, LocusLink, Medline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&amp; fetch 20,000 to 1.2 mill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AP is ~10x faster than Web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in progress for Fly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8183" t="11766" r="8183" b="11766"/>
          <a:stretch/>
        </p:blipFill>
        <p:spPr>
          <a:xfrm>
            <a:off x="304920" y="1152360"/>
            <a:ext cx="80769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irectory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2680" y="5105520"/>
            <a:ext cx="7352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ory test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ttp://iubio.bio.indiana.edu/biogrid/directori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28:33Z</dcterms:created>
  <dc:creator>don gilbert</dc:creator>
  <dc:description/>
  <dc:language>en-US</dc:language>
  <cp:lastModifiedBy>don gilbert</cp:lastModifiedBy>
  <dcterms:modified xsi:type="dcterms:W3CDTF">2003-05-04T18:56:14Z</dcterms:modified>
  <cp:revision>6</cp:revision>
  <dc:subject/>
  <dc:title>Genome Data Directories</dc:title>
</cp:coreProperties>
</file>